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D55-31A2-4227-B525-F67B3318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599-8171-4CC9-A951-EAE9E26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EFC-4F0A-41CC-8052-CCCCB3FA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F77-0FC6-4D71-BDC9-3519ACA8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05F-BB8F-461B-BAB2-42210217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846-8555-46AF-96BE-0AB1231D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347-132D-41E7-A425-FC232ADB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F3F-0088-41DD-A311-DB8652A5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A65-227A-4990-9272-C4C300B6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2C6-7175-47DF-8102-2313EBC1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E09-3504-44CE-AA33-645DB0D9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394-2B13-45E6-9704-AAC31F70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C252-7BD5-4D7B-B19C-187546EED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aramond"/>
              </a:rPr>
              <a:t>Using Area Models for F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The following presentation will teach you how to build area models with AlgeBlocks to multiply bi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FOI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44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62120" y="304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Let’s look at an easy problem. Here is how we would make an area model for (x + 2) (x + 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501156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 Make sure you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2767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6160" y="9144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(x + 2) and (x + 3) are the factors in our problem. They are also the dimensions (length and width)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15238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Again, make sure to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981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model the area. The students will need to determine which blocks fit perfectly in th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867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the area is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5x + 6. Back to our original problem: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(x + 2) (x + 3) =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5x +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952880" y="3505320"/>
            <a:ext cx="301680" cy="1977840"/>
            <a:chOff x="4952880" y="3505320"/>
            <a:chExt cx="301680" cy="1977840"/>
          </a:xfrm>
        </p:grpSpPr>
        <p:sp>
          <p:nvSpPr>
            <p:cNvPr id="56" name=""/>
            <p:cNvSpPr/>
            <p:nvPr/>
          </p:nvSpPr>
          <p:spPr>
            <a:xfrm>
              <a:off x="4952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5288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288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257800" y="3195720"/>
            <a:ext cx="2282760" cy="306360"/>
            <a:chOff x="5257800" y="3195720"/>
            <a:chExt cx="2282760" cy="306360"/>
          </a:xfrm>
        </p:grpSpPr>
        <p:sp>
          <p:nvSpPr>
            <p:cNvPr id="60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8880" y="31957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43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257800" y="3505320"/>
            <a:ext cx="2282760" cy="1977840"/>
            <a:chOff x="5257800" y="3505320"/>
            <a:chExt cx="2282760" cy="1977840"/>
          </a:xfrm>
        </p:grpSpPr>
        <p:sp>
          <p:nvSpPr>
            <p:cNvPr id="65" name=""/>
            <p:cNvSpPr/>
            <p:nvPr/>
          </p:nvSpPr>
          <p:spPr>
            <a:xfrm>
              <a:off x="5257800" y="35053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343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8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792760" y="434196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5792760" y="46465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3432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3888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940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3432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3888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FOI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78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62120" y="304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let’s try the following problem: (2x + 3)(x + 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472428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 Make sure you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1911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32767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6160" y="9144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(2x + 3) and (x + 4) are the factors in our problem. They are also the dimensions (length and width)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5238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Again, make sure to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981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model the area. The students will need to determine which blocks fit perfectly in th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6095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the area is 2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11x + 12. Back to our original problem: (2x + 3) (x + 4) = 2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11x +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3505320"/>
            <a:ext cx="301680" cy="2587680"/>
            <a:chOff x="4952880" y="3505320"/>
            <a:chExt cx="301680" cy="2587680"/>
          </a:xfrm>
        </p:grpSpPr>
        <p:grpSp>
          <p:nvGrpSpPr>
            <p:cNvPr id="90" name=""/>
            <p:cNvGrpSpPr/>
            <p:nvPr/>
          </p:nvGrpSpPr>
          <p:grpSpPr>
            <a:xfrm>
              <a:off x="4952880" y="3505320"/>
              <a:ext cx="301680" cy="1977840"/>
              <a:chOff x="4952880" y="3505320"/>
              <a:chExt cx="301680" cy="1977840"/>
            </a:xfrm>
          </p:grpSpPr>
          <p:sp>
            <p:nvSpPr>
              <p:cNvPr id="91" name=""/>
              <p:cNvSpPr/>
              <p:nvPr/>
            </p:nvSpPr>
            <p:spPr>
              <a:xfrm>
                <a:off x="495288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2880" y="4876920"/>
                <a:ext cx="301680" cy="30168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2880" y="5181480"/>
                <a:ext cx="301680" cy="30168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952880" y="5486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52880" y="57913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257800" y="3200400"/>
            <a:ext cx="3654360" cy="301680"/>
            <a:chOff x="5257800" y="3200400"/>
            <a:chExt cx="3654360" cy="301680"/>
          </a:xfrm>
        </p:grpSpPr>
        <p:sp>
          <p:nvSpPr>
            <p:cNvPr id="97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059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1048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10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71643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257800" y="3505320"/>
            <a:ext cx="3654360" cy="2587680"/>
            <a:chOff x="5257800" y="3505320"/>
            <a:chExt cx="3654360" cy="2587680"/>
          </a:xfrm>
        </p:grpSpPr>
        <p:sp>
          <p:nvSpPr>
            <p:cNvPr id="103" name=""/>
            <p:cNvSpPr/>
            <p:nvPr/>
          </p:nvSpPr>
          <p:spPr>
            <a:xfrm>
              <a:off x="83059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257800" y="3505320"/>
              <a:ext cx="3654360" cy="2587680"/>
              <a:chOff x="5257800" y="3505320"/>
              <a:chExt cx="3654360" cy="2587680"/>
            </a:xfrm>
          </p:grpSpPr>
          <p:sp>
            <p:nvSpPr>
              <p:cNvPr id="105" name=""/>
              <p:cNvSpPr/>
              <p:nvPr/>
            </p:nvSpPr>
            <p:spPr>
              <a:xfrm>
                <a:off x="5257800" y="3505320"/>
                <a:ext cx="137160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0100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61048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5792760" y="43419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5792760" y="46465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8001000" y="4876920"/>
                <a:ext cx="911160" cy="606240"/>
                <a:chOff x="8001000" y="4876920"/>
                <a:chExt cx="911160" cy="6062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61048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0100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30592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61048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0100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30592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6629400" y="3505320"/>
                <a:ext cx="137160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400000">
                <a:off x="5792760" y="495144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5792760" y="52563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400000">
                <a:off x="7164360" y="43419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400000">
                <a:off x="7164360" y="46465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400000">
                <a:off x="7164360" y="495144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400000">
                <a:off x="7164360" y="52563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8001000" y="5486400"/>
                <a:ext cx="911160" cy="606240"/>
                <a:chOff x="8001000" y="5486400"/>
                <a:chExt cx="911160" cy="6062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61048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00100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30592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1048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00100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0592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FOI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9:39:53Z</dcterms:created>
  <dc:creator>Mary</dc:creator>
  <dc:description/>
  <dc:language>en-US</dc:language>
  <cp:lastModifiedBy>Mary</cp:lastModifiedBy>
  <dcterms:modified xsi:type="dcterms:W3CDTF">2008-07-22T20:09:17Z</dcterms:modified>
  <cp:revision>3</cp:revision>
  <dc:subject/>
  <dc:title>Slide 1</dc:title>
</cp:coreProperties>
</file>